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mf.com.tw/farmproduce/c.htm" TargetMode="External"/><Relationship Id="rId3" Type="http://schemas.openxmlformats.org/officeDocument/2006/relationships/hyperlink" Target="http://www.pmf.com.tw/farmproduce/c.htm" TargetMode="External"/><Relationship Id="rId4" Type="http://schemas.openxmlformats.org/officeDocument/2006/relationships/hyperlink" Target="http://www.pmf.com.tw/farmproduce/w.htm" TargetMode="External"/><Relationship Id="rId5" Type="http://schemas.openxmlformats.org/officeDocument/2006/relationships/hyperlink" Target="http://www.pmf.com.tw/farmproduce/w.htm" TargetMode="External"/><Relationship Id="rId6" Type="http://schemas.openxmlformats.org/officeDocument/2006/relationships/hyperlink" Target="http://www.pmf.com.tw/farmproduce/o.htm" TargetMode="External"/><Relationship Id="rId7" Type="http://schemas.openxmlformats.org/officeDocument/2006/relationships/hyperlink" Target="http://www.pmf.com.tw/farmproduce/o.htm" TargetMode="External"/><Relationship Id="rId8" Type="http://schemas.openxmlformats.org/officeDocument/2006/relationships/hyperlink" Target="http://www.pmf.com.tw/farmproduce/s.htm" TargetMode="External"/><Relationship Id="rId9" Type="http://schemas.openxmlformats.org/officeDocument/2006/relationships/hyperlink" Target="http://www.pmf.com.tw/farmproduce/s.htm" TargetMode="External"/><Relationship Id="rId10" Type="http://schemas.openxmlformats.org/officeDocument/2006/relationships/hyperlink" Target="http://www.pmf.com.tw/farmproduce/bo.htm" TargetMode="External"/><Relationship Id="rId11" Type="http://schemas.openxmlformats.org/officeDocument/2006/relationships/hyperlink" Target="http://www.pmf.com.tw/farmproduce/bo.htm" TargetMode="External"/><Relationship Id="rId12" Type="http://schemas.openxmlformats.org/officeDocument/2006/relationships/hyperlink" Target="http://www.pmf.com.tw/farmproduce/sm.htm" TargetMode="External"/><Relationship Id="rId13" Type="http://schemas.openxmlformats.org/officeDocument/2006/relationships/hyperlink" Target="http://www.pmf.com.tw/farmproduce/sm.htm" TargetMode="External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0133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新細明體"/>
              </a:rPr>
              <a:t>農產品投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220011"/>
                </a:solidFill>
                <a:latin typeface="Verdana"/>
                <a:ea typeface="新細明體"/>
              </a:rPr>
              <a:t>指導教授</a:t>
            </a:r>
            <a:r>
              <a:rPr b="0" lang="en-US" sz="2000" spc="-1" strike="noStrike">
                <a:solidFill>
                  <a:srgbClr val="220011"/>
                </a:solidFill>
                <a:latin typeface="Verdana"/>
                <a:ea typeface="新細明體"/>
              </a:rPr>
              <a:t>: </a:t>
            </a:r>
            <a:r>
              <a:rPr b="0" lang="zh-TW" sz="2000" spc="-1" strike="noStrike">
                <a:solidFill>
                  <a:srgbClr val="220011"/>
                </a:solidFill>
                <a:latin typeface="Verdana"/>
                <a:ea typeface="新細明體"/>
              </a:rPr>
              <a:t>周恆志  教授                        學生</a:t>
            </a:r>
            <a:r>
              <a:rPr b="0" lang="en-US" sz="2000" spc="-1" strike="noStrike">
                <a:solidFill>
                  <a:srgbClr val="220011"/>
                </a:solidFill>
                <a:latin typeface="Verdana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220011"/>
                </a:solidFill>
                <a:latin typeface="Verdana"/>
                <a:ea typeface="新細明體"/>
              </a:rPr>
              <a:t>郭金寶  </a:t>
            </a:r>
            <a:r>
              <a:rPr b="0" lang="en-US" sz="2000" spc="-1" strike="noStrike">
                <a:solidFill>
                  <a:srgbClr val="220011"/>
                </a:solidFill>
                <a:latin typeface="Verdana"/>
                <a:ea typeface="新細明體"/>
              </a:rPr>
              <a:t>T974G0001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220011"/>
                </a:solidFill>
                <a:latin typeface="Verdana"/>
                <a:ea typeface="新細明體"/>
              </a:rPr>
              <a:t>吳筱芸  </a:t>
            </a:r>
            <a:r>
              <a:rPr b="0" lang="en-US" sz="2000" spc="-1" strike="noStrike">
                <a:solidFill>
                  <a:srgbClr val="220011"/>
                </a:solidFill>
                <a:latin typeface="Verdana"/>
                <a:ea typeface="新細明體"/>
              </a:rPr>
              <a:t>T974G0017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介紹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續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1.3.2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玉米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玉米的用途：人類糧食（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5%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）、牲畜飼料（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70%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）、工業生產原料（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25%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）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恩格爾係數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=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食物支出總額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÷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總支出金額（表示生活水準高低指標）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玉米用於工業原料：造紙、食品、紡織、醫藥、能源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生質能源：依其特性及轉化技術，有各種替代能源，如液態酒精、甲醇、氣體燃料及生質柴油。酒精汽油以玉米為生產原料。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介紹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續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2007</a:t>
            </a: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年</a:t>
            </a:r>
            <a:r>
              <a:rPr b="0" lang="en-US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12</a:t>
            </a: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月，布希簽署能源獨立及安全法案，該法案規定，美國國內販售的汽油必須參入一定比例的生質能源。</a:t>
            </a:r>
            <a:endParaRPr b="0" lang="en-US" sz="3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在此法案的支持下，美國</a:t>
            </a:r>
            <a:r>
              <a:rPr b="0" lang="en-US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2008</a:t>
            </a: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年生質能源的產量將從原本</a:t>
            </a:r>
            <a:r>
              <a:rPr b="0" lang="en-US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54</a:t>
            </a: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億加侖成長到</a:t>
            </a:r>
            <a:r>
              <a:rPr b="0" lang="en-US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90</a:t>
            </a: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億加侖，預估在</a:t>
            </a:r>
            <a:r>
              <a:rPr b="0" lang="en-US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2022</a:t>
            </a: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年達到</a:t>
            </a:r>
            <a:r>
              <a:rPr b="0" lang="en-US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306</a:t>
            </a: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億加侖。</a:t>
            </a:r>
            <a:endParaRPr b="0" lang="en-US" sz="3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Verdana"/>
                <a:ea typeface="標楷體"/>
              </a:rPr>
              <a:t>玉米的價格影響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1773360"/>
            <a:ext cx="1872000" cy="50328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玉米黃豆價格比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2781360"/>
            <a:ext cx="1942920" cy="43164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玉米種植面積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2781360"/>
            <a:ext cx="1656000" cy="43164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玉米庫存量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3860640"/>
            <a:ext cx="1800360" cy="43200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美國農業政策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1773360"/>
            <a:ext cx="1871640" cy="50328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生產區氣候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2781360"/>
            <a:ext cx="1728720" cy="43164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玉米總產量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860640"/>
            <a:ext cx="1729080" cy="43200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玉米出口需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4941720"/>
            <a:ext cx="1728720" cy="43200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牲口與家禽數量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4941720"/>
            <a:ext cx="1729080" cy="43200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替代產品的價格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4941720"/>
            <a:ext cx="1728720" cy="43200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玉米市場需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5950080"/>
            <a:ext cx="1729080" cy="431640"/>
          </a:xfrm>
          <a:prstGeom prst="rect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生質能源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645000"/>
            <a:ext cx="934920" cy="792000"/>
          </a:xfrm>
          <a:prstGeom prst="ellipse">
            <a:avLst/>
          </a:prstGeom>
          <a:solidFill>
            <a:srgbClr val="81ca6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玉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Arial"/>
                <a:ea typeface="新細明體"/>
              </a:rPr>
              <a:t>價格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2349360"/>
            <a:ext cx="0" cy="432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2276640"/>
            <a:ext cx="0" cy="50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2997360"/>
            <a:ext cx="936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64000" y="2997360"/>
            <a:ext cx="6480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4076640"/>
            <a:ext cx="12240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5157720"/>
            <a:ext cx="86508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356000" y="5373360"/>
            <a:ext cx="0" cy="576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364000" y="5157720"/>
            <a:ext cx="9367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437000"/>
            <a:ext cx="0" cy="43200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0000" y="3213000"/>
            <a:ext cx="0" cy="57636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4076640"/>
            <a:ext cx="1225440" cy="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3300"/>
              </a:solidFill>
              <a:latin typeface="Verdana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介紹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續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1.3.3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小麥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小麥分類，大致可依麥粒顏色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紅或白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、種實組織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硬或軟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、播種季節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春或冬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等三種特徴區分。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春麥通常在春天播種，夏末收成。冬麥通常在秋天播種，冬天正式來臨之前長出根部，隨即進入冬眠，隔年春暖花開時，新芽破土而出，初夏收成。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硬質或軟質以小麥蛋白質含量為標準，硬麥含量為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11%-18%)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，軟麥含量為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8%-11%)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常見的小麥有五種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: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硬紅冬麥 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hard red winter wheat)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、軟紅冬麥 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soft red winter wheat)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、硬紅春麥 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hard red spring wheat)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、軟白麥 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soft white wheat)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以及通心粉麥 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durum wheat)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等。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介紹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續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小麥價格的決定因素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影響小麥價格的因素很多，全球氣候是最重要的因素。小麥是人類重要的糧食來源之一，小麥的需求面非常穩定，不容易有重大變動。因此，供給面變成影響小麥供需關係中相對不穩定的因素，小麥產屈的氣候有任何不尋常的變化，例如乾旱、水災或是寒害等，都會引起小麥價格的大幅波動。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小麥的價格影響因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3300"/>
              </a:solidFill>
              <a:latin typeface="Verdana"/>
              <a:ea typeface="新細明體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1773360"/>
            <a:ext cx="208764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生產區氣候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924280"/>
            <a:ext cx="208764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小麥庫存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27640" y="2924280"/>
            <a:ext cx="208764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小麥種植面積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2924280"/>
            <a:ext cx="208764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小麥總產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149720"/>
            <a:ext cx="208764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小麥出口需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4076640"/>
            <a:ext cx="208764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美國農業政策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5157720"/>
            <a:ext cx="208764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小麥市場需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5950080"/>
            <a:ext cx="208764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國民所得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5950080"/>
            <a:ext cx="208764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人類食物需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3933720"/>
            <a:ext cx="1008000" cy="863640"/>
          </a:xfrm>
          <a:prstGeom prst="ellipse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小麥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價格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2276640"/>
            <a:ext cx="0" cy="57600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3141720"/>
            <a:ext cx="504720" cy="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724360" y="3141720"/>
            <a:ext cx="503280" cy="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429000"/>
            <a:ext cx="0" cy="43164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4365720"/>
            <a:ext cx="865080" cy="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4365720"/>
            <a:ext cx="1152720" cy="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4797360"/>
            <a:ext cx="0" cy="36036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27280" y="5589360"/>
            <a:ext cx="936720" cy="36036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796000" y="5589360"/>
            <a:ext cx="936720" cy="36036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價格變動因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生產區氣候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美國農業政策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無追索權價格補貼貸款 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 Nonrecourse Price Support Loans)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目標價與差額補助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穀物準備計劃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耕地面積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競爭作物價格比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飼養獲利比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價格變動因素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續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庫存量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季節性因素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黃豆期貨價格的季節性循環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玉米期貨價格的季節性循環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小麥期貨價格的季節性循環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農業報告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國民所得的提升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投資策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黃豆玉米價格比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價差交易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跨越價差交易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跨商品價差交易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跨市價差交易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跨叉交易策略的優點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投資工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期貨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黃豆、玉米、小麥是當今三大熱門產品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基金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ETF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和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ETN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投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Verdana"/>
                <a:ea typeface="新細明體"/>
              </a:rPr>
              <a:t>  </a:t>
            </a: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簡報大綱</a:t>
            </a:r>
            <a:endParaRPr b="0" lang="en-US" sz="3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投資簡介</a:t>
            </a:r>
            <a:endParaRPr b="0" lang="en-US" sz="3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投資策略</a:t>
            </a:r>
            <a:endParaRPr b="0" lang="en-US" sz="3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投資工具</a:t>
            </a:r>
            <a:endParaRPr b="0" lang="en-US" sz="3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風險</a:t>
            </a:r>
            <a:r>
              <a:rPr b="0" lang="en-US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vs.</a:t>
            </a: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報酬</a:t>
            </a:r>
            <a:endParaRPr b="0" lang="en-US" sz="36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趨勢觀察</a:t>
            </a:r>
            <a:endParaRPr b="0" lang="en-US" sz="3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期貨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9280" y="1523880"/>
          <a:ext cx="8785440" cy="4956120"/>
        </p:xfrm>
        <a:graphic>
          <a:graphicData uri="http://schemas.openxmlformats.org/drawingml/2006/table">
            <a:tbl>
              <a:tblPr/>
              <a:tblGrid>
                <a:gridCol w="1255680"/>
                <a:gridCol w="1254240"/>
                <a:gridCol w="1255680"/>
                <a:gridCol w="1254240"/>
                <a:gridCol w="1255680"/>
                <a:gridCol w="1254240"/>
                <a:gridCol w="1255680"/>
              </a:tblGrid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商品名稱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2"/>
                        </a:rPr>
                        <a:t>玉米 </a:t>
                      </a:r>
                      <a:r>
                        <a:rPr b="0" lang="en-US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3"/>
                        </a:rPr>
                        <a:t>(C)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4"/>
                        </a:rPr>
                        <a:t>小麥 </a:t>
                      </a:r>
                      <a:r>
                        <a:rPr b="0" lang="en-US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5"/>
                        </a:rPr>
                        <a:t>(W)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6"/>
                        </a:rPr>
                        <a:t>燕麥 </a:t>
                      </a:r>
                      <a:r>
                        <a:rPr b="0" lang="en-US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7"/>
                        </a:rPr>
                        <a:t>(O)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8"/>
                        </a:rPr>
                        <a:t>黃豆 </a:t>
                      </a:r>
                      <a:r>
                        <a:rPr b="0" lang="en-US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9"/>
                        </a:rPr>
                        <a:t>(S)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10"/>
                        </a:rPr>
                        <a:t>豆油 </a:t>
                      </a:r>
                      <a:r>
                        <a:rPr b="0" lang="en-US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11"/>
                        </a:rPr>
                        <a:t>(BO)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12"/>
                        </a:rPr>
                        <a:t>豆粉 </a:t>
                      </a:r>
                      <a:r>
                        <a:rPr b="0" lang="en-US" sz="1600" spc="-1" strike="noStrike" u="sng">
                          <a:solidFill>
                            <a:srgbClr val="a58779"/>
                          </a:solidFill>
                          <a:uFillTx/>
                          <a:latin typeface="新細明體"/>
                          <a:ea typeface="新細明體"/>
                          <a:hlinkClick r:id="rId13"/>
                        </a:rPr>
                        <a:t>(SM)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合約規格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5,00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英斗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60,00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磅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10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噸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期貨交易所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芝加哥期貨交易所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(CBOT)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最小跳動值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0.25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分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/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英斗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=12.5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元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0.01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分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/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磅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=6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元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分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/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噸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=1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元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每日漲跌停板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分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=$1,000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3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分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=$1,500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分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=$1,000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5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分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=$2,500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分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=$1,200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美分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=$2,000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主要交易月份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3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7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9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12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3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7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8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9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11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3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7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8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9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、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12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月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交易時段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人工交易：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22:30~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次日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02:15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台灣時間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)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電子交易：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07:30 ~ 19:00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；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22:30~</a:t>
                      </a:r>
                      <a:r>
                        <a:rPr b="0" lang="zh-TW" sz="16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次日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Sөũ"/>
                          <a:ea typeface="新細明體"/>
                        </a:rPr>
                        <a:t>02:15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基金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基金通常是投資與農產品相關的股票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例如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: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投資肥料製造商、生產農機器具的公司或改良種子基因的生技公司的股票。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藉由所持有股票的上漲而獲利，並藉由主動式的管理，以達到打敗大盤的績效為目標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超越大盤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基金比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1523880"/>
          <a:ext cx="8785080" cy="4856760"/>
        </p:xfrm>
        <a:graphic>
          <a:graphicData uri="http://schemas.openxmlformats.org/drawingml/2006/table">
            <a:tbl>
              <a:tblPr/>
              <a:tblGrid>
                <a:gridCol w="1524960"/>
                <a:gridCol w="2395440"/>
                <a:gridCol w="2444400"/>
                <a:gridCol w="2420280"/>
              </a:tblGrid>
              <a:tr h="1424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基金名稱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施羅德農業基金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華南永昌全球     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神農水資源基金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德盛安聯全球     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農金趨勢基金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代理商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施羅德投顧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華南永昌投信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德盛安聯投信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成立日期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2006/10/27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2007/12/14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2008/2/12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基金規模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36.63</a:t>
                      </a: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億美金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59.47</a:t>
                      </a: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億新台幣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91.35</a:t>
                      </a: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億新台幣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基金類型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全球型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全球型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全球型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ETF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和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ET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</a:t>
            </a:r>
            <a:r>
              <a:rPr b="0" lang="en-US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ETF</a:t>
            </a:r>
            <a:r>
              <a:rPr b="0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和</a:t>
            </a:r>
            <a:r>
              <a:rPr b="0" lang="en-US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ETN</a:t>
            </a:r>
            <a:r>
              <a:rPr b="0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主要是以複製農產品指數的走勢，使得投資者可以參與農產品漲幅，獲得近似農產品走勢的報酬。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被動的跟隨農產品指數，以達到最接近農產品指數的表現為目的。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大部分的</a:t>
            </a:r>
            <a:r>
              <a:rPr b="0" lang="en-US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ETF</a:t>
            </a:r>
            <a:r>
              <a:rPr b="0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和</a:t>
            </a:r>
            <a:r>
              <a:rPr b="0" lang="en-US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ETN</a:t>
            </a:r>
            <a:r>
              <a:rPr b="0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均在歐美的交易所掛牌上市，流動性風險也比較小，相當適合能承受中度風險的一般投資人。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ETF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523520"/>
            <a:ext cx="5184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owerShares DB Agriculture Fund (DBA)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由德意志銀行所成立，是最早成立，規模最大的一檔農產品相關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ETF (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追蹤德意志銀行流動商品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—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指數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，由四個期貨合約組成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: 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玉米、小麥、黃豆與糖，各佔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25%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580000" y="1523880"/>
          <a:ext cx="3384720" cy="4038840"/>
        </p:xfrm>
        <a:graphic>
          <a:graphicData uri="http://schemas.openxmlformats.org/drawingml/2006/table">
            <a:tbl>
              <a:tblPr/>
              <a:tblGrid>
                <a:gridCol w="1476720"/>
                <a:gridCol w="1908000"/>
              </a:tblGrid>
              <a:tr h="574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DBA</a:t>
                      </a: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的組成分子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包含商品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所佔比重 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玉米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小麥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黃豆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糖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總計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ET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791480" cy="18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ETN </a:t>
            </a:r>
            <a:r>
              <a:rPr b="0" lang="zh-TW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是 </a:t>
            </a:r>
            <a:r>
              <a:rPr b="0" lang="en-US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Exchange Traded Note </a:t>
            </a:r>
            <a:r>
              <a:rPr b="0" lang="zh-TW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的縮寫，是一種</a:t>
            </a:r>
            <a:r>
              <a:rPr b="0" lang="en-US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30</a:t>
            </a:r>
            <a:r>
              <a:rPr b="0" lang="zh-TW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年期，無擔保，高順位的債券。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iPath DJ AIG Agriculture TR Sub-Idx ETN (JJA)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是巴克萊銀行推出的農產品相關</a:t>
            </a:r>
            <a:r>
              <a:rPr b="0" lang="en-US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ETN</a:t>
            </a:r>
            <a:r>
              <a:rPr b="0" lang="zh-TW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，透過追蹤道瓊</a:t>
            </a:r>
            <a:r>
              <a:rPr b="0" lang="en-US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AIG</a:t>
            </a:r>
            <a:r>
              <a:rPr b="0" lang="zh-TW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指數，來達到近似農產品漲幅的報酬包含了七種期貨合約</a:t>
            </a:r>
            <a:r>
              <a:rPr b="0" lang="en-US" sz="2000" spc="-1" strike="noStrike">
                <a:solidFill>
                  <a:srgbClr val="003300"/>
                </a:solidFill>
                <a:latin typeface="標楷體"/>
                <a:ea typeface="標楷體"/>
              </a:rPr>
              <a:t>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00000" y="3500280"/>
          <a:ext cx="7559640" cy="2065320"/>
        </p:xfrm>
        <a:graphic>
          <a:graphicData uri="http://schemas.openxmlformats.org/drawingml/2006/table">
            <a:tbl>
              <a:tblPr/>
              <a:tblGrid>
                <a:gridCol w="1787760"/>
                <a:gridCol w="2116080"/>
                <a:gridCol w="1484280"/>
                <a:gridCol w="217152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包含商品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所佔比重 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包含商品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所佔比重 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黃豆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23.9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黃豆油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9.3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玉米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22.5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咖啡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9.5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小麥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15.8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棉花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8.2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糖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10.7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總計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新細明體"/>
                          <a:ea typeface="新細明體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ET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ELEMENTS Rogers Intl Commodity Agric ETN (RJA)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RJA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追蹤羅傑斯國際商品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–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指數，以分享農產品上漲所帶來的報酬。該指數的組成分子相當廣泛，包含了多達二十種期貨合約，是包含期貨合約最多的一個農產品指數。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農產品基金與農產品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ETF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ETN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比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基金投資的是相關股票，和農產品並沒有直接關連即使農產品價格飛漲，農產品股票不見得因此受惠。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投資農產品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ETF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以及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ETN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要注意追蹤的指數，指數的編撰方式會影響指數的表現。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例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: 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德意志流動商品農產品指數和道瓊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AIG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指數的組合分子不同，各項農產品所佔的比例也不同，所以農產品的價格雖然上漲，但兩個指數會有不同的表現。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風險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標楷體"/>
              </a:rPr>
              <a:t>vs. </a:t>
            </a: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報酬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期貨商品風險較大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投資人需要透過國內期貨商下單海外交易所，但和台灣有時差，加上保證金槓桿倍數交易、沒有帳跌幅限制，風險相當大。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不過投資不一定要以槓桿方式操作，可以選擇直接買進整口合約價格，將投資時間放長，賺取中間的現貨差價。但這種投資方式的資金門檻太高，不適合本金不夠雄厚的小額投資人。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風險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標楷體"/>
              </a:rPr>
              <a:t>vs. </a:t>
            </a: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報酬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ETF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報酬平穩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ETF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的投資標的分散，風險、波動度都會比投資期貨來得低，相對來說，報酬率也顯得平穩，如果看好農產品長線走多趨勢的投資人，可以考慮納為多元配置的一環，不過，紐約、倫敦掛牌的農產品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ETF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眾多，申購時要注意成交量，以免買到流通性太差的產品。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Verdana"/>
                <a:ea typeface="新細明體"/>
              </a:rPr>
              <a:t>  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投資簡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特色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前景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介紹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黃豆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玉米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小麥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價格變動因素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風險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標楷體"/>
              </a:rPr>
              <a:t>vs. </a:t>
            </a: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報酬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Verdana"/>
                <a:ea typeface="標楷體"/>
              </a:rPr>
              <a:t>農產品受氣候因素影響很大，當氣候異常變化時，價格波動度會非常大，建議投資人參與農產品多頭行情，不要短線操作，將投資時間拉長，才能賺取報酬。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9" name="f_101618_2" descr=""/>
          <p:cNvPicPr/>
          <p:nvPr/>
        </p:nvPicPr>
        <p:blipFill>
          <a:blip r:embed="rId2"/>
          <a:stretch/>
        </p:blipFill>
        <p:spPr>
          <a:xfrm>
            <a:off x="1692360" y="3500280"/>
            <a:ext cx="6335640" cy="309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395280" y="3789360"/>
          <a:ext cx="1081080" cy="10350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趨勢觀察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新興國家人口不斷增長，聯合國預估，至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2050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年世界糧食每年面對近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8,000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萬新增人口壓力，將出現供給吃緊情況；聯合國更估計，到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2030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年全球農產品需求將超越今日需求約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60%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。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玉米可以用來製造生質燃料乙醇，未來需求持續增長，後市看好。蔗糖是全球用來製造乙醇的主要原料。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趨勢觀察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工業化和都市化的進程造成耕地減少，天氣丕變也影響了農業收成，在供給趕不上需求的情況下，農產品的多頭行情是可預見的。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羅傑斯大膽預言，農產品至少還有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15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年的多頭好光景，且扣掉通膨因素，目前農產品價格遠低於歷史高價，如現在糖價比歷史高價低了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85%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；黃豆也比歷史高價低了約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成。素有「新興市場教父」的富蘭克林坦伯頓新興市場研究團隊負責人馬克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‧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墨比爾斯，同樣看好農產品多頭行情。</a:t>
            </a:r>
            <a:r>
              <a:rPr b="0" lang="zh-TW" sz="2800" spc="-1" strike="noStrike">
                <a:solidFill>
                  <a:srgbClr val="003300"/>
                </a:solidFill>
                <a:latin typeface="Verdana"/>
                <a:ea typeface="新細明體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Verdana"/>
              <a:ea typeface="新細明體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Verdana"/>
                <a:ea typeface="新細明體"/>
              </a:rPr>
              <a:t>                 </a:t>
            </a:r>
            <a:r>
              <a:rPr b="0" lang="zh-TW" sz="5400" spc="-1" strike="noStrike">
                <a:solidFill>
                  <a:srgbClr val="003300"/>
                </a:solidFill>
                <a:latin typeface="標楷體"/>
                <a:ea typeface="標楷體"/>
              </a:rPr>
              <a:t>報告完畢 </a:t>
            </a:r>
            <a:r>
              <a:rPr b="0" lang="en-US" sz="5400" spc="-1" strike="noStrike">
                <a:solidFill>
                  <a:srgbClr val="003300"/>
                </a:solidFill>
                <a:latin typeface="標楷體"/>
                <a:ea typeface="標楷體"/>
              </a:rPr>
              <a:t>~</a:t>
            </a:r>
            <a:endParaRPr b="0" lang="en-US" sz="5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的特色、前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1.1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的特色：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氣候因素（旱災、水災、寒害）、戰爭及蟲害等影響價格波動 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1.2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的前景：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「高糧價」時代的來臨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21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世紀以來，極端氣候頻頻出現， 造成糧食生產短缺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生質能源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—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2007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12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月布希簽署「能源獨立及安全法案」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大宗物資價格狂漲，演變成一場超級「榖災」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吉姆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˙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羅傑斯：農產品成為最安全的投資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農產品介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1.3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農產品介紹：黃豆、玉米、小麥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1.3.1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黃豆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特性：具有高蛋白質及豐富油脂性，素有「綠色鮮乳」及 「植物肉」美稱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黃豆的用途（副產品） ：黃豆粉、黃豆油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產區：美國（佔全球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50%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以上）、巴西、中國、阿根廷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美國產地：五大湖區之南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重要交易地：芝加哥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Verdana"/>
                <a:ea typeface="標楷體"/>
              </a:rPr>
              <a:t>黃豆產品的價格影響因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82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3300"/>
              </a:solidFill>
              <a:latin typeface="Verdana"/>
              <a:ea typeface="新細明體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1413000"/>
            <a:ext cx="180000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生產區氣候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2205000"/>
            <a:ext cx="180036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黃豆庫存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2060640"/>
            <a:ext cx="180000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黃豆總產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1413000"/>
            <a:ext cx="180000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黃豆玉米價格比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72360" y="2133720"/>
            <a:ext cx="180000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黃豆種植面積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72360" y="2852640"/>
            <a:ext cx="1800000" cy="50508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美國農業政策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3284640"/>
            <a:ext cx="180036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黃豆出口需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3573360"/>
            <a:ext cx="1800360" cy="50508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黃豆市場需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4292640"/>
            <a:ext cx="180036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黃豆壓榨需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5013360"/>
            <a:ext cx="1800360" cy="50472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黃豆壓榨價值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2708280"/>
            <a:ext cx="720720" cy="647640"/>
          </a:xfrm>
          <a:prstGeom prst="ellipse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黃豆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價格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5229360"/>
            <a:ext cx="720720" cy="647640"/>
          </a:xfrm>
          <a:prstGeom prst="ellipse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豆油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價格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5300640"/>
            <a:ext cx="721080" cy="647640"/>
          </a:xfrm>
          <a:prstGeom prst="ellipse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豆粉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價格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6021360"/>
            <a:ext cx="1008000" cy="64944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美國國內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豆粉需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6021360"/>
            <a:ext cx="1008000" cy="64944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豆粉的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出口需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6021360"/>
            <a:ext cx="1008000" cy="64944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美國國內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豆油需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6021360"/>
            <a:ext cx="1008000" cy="649440"/>
          </a:xfrm>
          <a:prstGeom prst="rect">
            <a:avLst/>
          </a:prstGeom>
          <a:solidFill>
            <a:srgbClr val="81ca6a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豆油的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出口需求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58920" y="5660640"/>
            <a:ext cx="576360" cy="36036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700360" y="5660640"/>
            <a:ext cx="719280" cy="36036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940360" y="5660640"/>
            <a:ext cx="719280" cy="28908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451640" y="5660640"/>
            <a:ext cx="649440" cy="28908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68000" y="5084640"/>
            <a:ext cx="1366920" cy="0"/>
          </a:xfrm>
          <a:prstGeom prst="line">
            <a:avLst/>
          </a:prstGeom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5084640"/>
            <a:ext cx="0" cy="14472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5084640"/>
            <a:ext cx="1512720" cy="0"/>
          </a:xfrm>
          <a:prstGeom prst="line">
            <a:avLst/>
          </a:prstGeom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084640"/>
            <a:ext cx="0" cy="14472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00720" y="4797360"/>
            <a:ext cx="0" cy="21600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00720" y="4076640"/>
            <a:ext cx="0" cy="21600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27640" y="3357360"/>
            <a:ext cx="0" cy="21564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627280" y="3141720"/>
            <a:ext cx="1368360" cy="35856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8920" y="3068640"/>
            <a:ext cx="1513080" cy="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2421000"/>
            <a:ext cx="865080" cy="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565360"/>
            <a:ext cx="0" cy="14292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435640" y="2349360"/>
            <a:ext cx="936720" cy="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0" cy="215640"/>
          </a:xfrm>
          <a:prstGeom prst="line">
            <a:avLst/>
          </a:prstGeom>
          <a:ln cap="sq"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1916280"/>
            <a:ext cx="0" cy="21744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1916280"/>
            <a:ext cx="0" cy="14436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黃豆產品的價格影響因素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續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黃豆玉米價格比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S/C)=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黃豆現貨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或期貨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價格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玉米現貨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或期貨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價格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S/C)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理論值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:3.5(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一英畝耕地產出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:117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英斗玉米或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33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英斗黃豆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S/C)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轉折點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:2.5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S/C)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高於轉折點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2.5)---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轉作黃豆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S/C)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轉折點</a:t>
            </a:r>
            <a:r>
              <a:rPr b="0" lang="en-US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(2.5))---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轉作玉米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黃豆產品的價格影響因素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續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黃豆的壓榨利潤 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=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黃豆粉、黃豆油與黃豆原料之間的價值差。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英斗黃豆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60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磅（黃豆）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磅（黃豆油）＋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47.5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磅（黃豆油）＋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1.5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磅（水分＋殘渣）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假設黃豆原料的價格為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586.5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英斗，黃豆油為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21.94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磅，黃豆粉為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169.30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元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噸，則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每英斗黃豆壓榨出黃豆油價值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11(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磅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)×21.94(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磅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241.34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；黃豆粉價值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47.5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（磅）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×169.30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（美元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噸）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÷2000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（磅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噸）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×100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（美分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元）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387.84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。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英斗副產品價值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241.34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＋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387.84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629.18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。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壓榨利潤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629.18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英斗－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586.5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英斗＝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42.68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美分</a:t>
            </a:r>
            <a:r>
              <a:rPr b="0" lang="en-US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英斗。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黃豆產品的價格影響因素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續</a:t>
            </a:r>
            <a:r>
              <a:rPr b="0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黃豆油價格影響因素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: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巴西黃豆油與馬來西亞棕櫚油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高價食用油供應量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葵花油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低價食用產量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棕櫚油</a:t>
            </a:r>
            <a:r>
              <a:rPr b="0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、椰子油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油黃豆粉價格影因素</a:t>
            </a:r>
            <a:r>
              <a:rPr b="0" lang="en-US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: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高蛋白飼料動物飼養數量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牲畜價格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黃豆與黃豆粉存量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9:54:30Z</dcterms:created>
  <dc:creator>Water</dc:creator>
  <dc:description/>
  <cp:keywords/>
  <dc:language>en-US</dc:language>
  <cp:lastModifiedBy>Water</cp:lastModifiedBy>
  <dcterms:modified xsi:type="dcterms:W3CDTF">2008-11-24T14:11:16Z</dcterms:modified>
  <cp:revision>13</cp:revision>
  <dc:subject/>
  <dc:title>農產品投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91028</vt:lpwstr>
  </property>
</Properties>
</file>